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A3E1-4A43-4CCA-8693-3C3BA71FC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C988-0AE5-4BDE-A781-486BDB4A1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3519-CD0E-48B0-9FF7-3638840DD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14DF-1FDD-4250-8814-605176B6E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17AE-F8F8-4ACC-AF29-54BA6591D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699F-B5DE-4E1E-8137-9C2EDAD5C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1BFC-48A5-4A83-8B01-9DB076E01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D4C4-E05D-43A1-A8B2-006DB09B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55F8-6AC2-47CD-A780-FB29DEFDF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7E6F-5FB8-46BB-B5C2-973AE611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AED5-E193-4843-ABA3-DCE8E6B5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C359-283F-4993-8AC5-2C37B587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F0B3F-950B-4332-BA61-13A6CD88C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OLONIAL PERIO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002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 nation goes down and never comes back, when a society or civilization perishe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condition may always be found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forgot where they came from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l Sandbu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arving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ith returned to Eng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rchy led to collap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0 of 500 settlers d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ged war against Powhat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resorted to canniba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hn Rolfe marries Pocahontas after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glo-Powhatan War (1610-16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ed an uneasy tru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ar (1622) caused by death of Pocahon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mestown surviv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st Indian hybrid of tobacco introdu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itability of tobacco farming secured economic survi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right system: awarded 50 acres of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trents” – 1 shilling /year to provide funds to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d for great opportunities to those with mo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ntured serva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use of Burg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don Company restructur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s to political re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18 settlers guaranteed “traditional rights of Englishme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ative Democra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ny divided into 11 distr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electors e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ng James I revoked charter; mandated royal control in 16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ed to meet unofficially until recognized by Charles I in 16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me a bicameral legislature in 1650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rgesses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d as model for other royal colon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House elected by eligible voters – white male property ow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led power to introduce bills to 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of the purse” was important “check” on royal governors whose salaries were paid by colonial assemb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per House usually appointed directly by royal govern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l Government in Virgi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opted “county-court” system in 163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 officials appointed by colonial govern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d repair of public buildings and local road co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ed local tax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haved as judges during civil &amp; criminal procee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mportant difference from New England’s town meet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ginia’s Anglican Chu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urch of England became established, state supported chu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xpayers required to pay tithes and provide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age of ministers &amp; rural geography restricted church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tlers remained highly religious even though religion was not primary reason for coming to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sapeake Ge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sapeake Bay (Virginia, Maryland) exceeds 6000 miles of shore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vers primary transportation paths of tidewater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tation homes usually faced ri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mate meant dying from biological hazards (yellow fever, dysentery, malar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sape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male life expectancy shorter – pregna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% Indentured servants died prior to end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Object 5"/>
          <p:cNvGraphicFramePr/>
          <p:nvPr/>
        </p:nvGraphicFramePr>
        <p:xfrm>
          <a:off x="4651200" y="1600200"/>
          <a:ext cx="403236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0" y="1600200"/>
                    <a:ext cx="40323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ulation Stat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3"/>
          <p:cNvGraphicFramePr/>
          <p:nvPr/>
        </p:nvGraphicFramePr>
        <p:xfrm>
          <a:off x="460440" y="1600200"/>
          <a:ext cx="403236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440" y="1600200"/>
                    <a:ext cx="40323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ouse expire ea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ant mortality rates pushed 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ed family structures – multiple last names in one 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men granted inheritance rights to protect children’s inher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ntured Serv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5% of population prior to 16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ng lower socioeconomic sta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ed without wa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so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losure movemen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tish Civil W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laced tenant far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on’s Rebe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j0212661"/>
          <p:cNvPicPr/>
          <p:nvPr/>
        </p:nvPicPr>
        <p:blipFill>
          <a:blip r:embed="rId1"/>
          <a:stretch/>
        </p:blipFill>
        <p:spPr>
          <a:xfrm>
            <a:off x="5775480" y="1787400"/>
            <a:ext cx="1782720" cy="1811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2" descr="j0149407"/>
          <p:cNvPicPr/>
          <p:nvPr/>
        </p:nvPicPr>
        <p:blipFill>
          <a:blip r:embed="rId2"/>
          <a:stretch/>
        </p:blipFill>
        <p:spPr>
          <a:xfrm>
            <a:off x="5334120" y="3733920"/>
            <a:ext cx="34290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-Columbian Civiliz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ing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i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-Columbian C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umbian Ex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 Evidence of Advanced Civ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Families of Virgi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cratic as social rank based upon economic status rather than name or bi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vivors of early years accumulated large land hol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32: King Carter owned 333,000 ac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l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bolized highly stratified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edents controlled 70% of seats in H. of Burgesses by time of Rev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of first 5 presidents trace heritage to these planter el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ver accepted as “gentlemen” status in En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tives Behind European Colonization &amp; Explo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Arriv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 of the Holy Wars/Crus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ly Portuguese Expl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rdinand &amp; Isabe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nando Cort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go Vespuc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ncisco Pizar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rdinand Magel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ly British Claims in North Ame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ly French Clai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Goals of French, British, Spanish Expl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British Colon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t British transplants were likely temporary – cod fisheries utilizing the Grand Banks (1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entu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nry VIII: one time supporter of Catholic church; criticized Protestant Re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r defied Pope; legitimized the Reformation by divorcing Catherine of Aragon; confiscated church lands which led to profound socioeconomic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orce created negative diplomatic relations between Spain and Eng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izabeth I and Sea Do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70s &amp; 1580s found Protestant-Catholic tensions in France &amp; Ire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and positioned itself to deal with Spain – Sir Francis Drake knigh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power changed as seapower shifted from Spain to England  - Spanish Armada defe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ost Colo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r Walter Raleigh given charter – 158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tropical cr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 as naval base for privateers against Span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anoke Island– 1585 (Virginia after the “virgin Queen” Elizabeth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int Stock Compan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ed to provide funds for colo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chances for survival following defeat of Span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mes I granted two char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don Company &amp; Plymouth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mestown and the Chesapea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mestown: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ermanent settlement 1607 (named for James 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discip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hn Smi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ident of governing council 16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d foreign relations with Powhatan Indian confede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discipline to sett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or don’t ea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ted cr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 she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14:42:29Z</dcterms:created>
  <dc:creator>Mark A. Jenkins</dc:creator>
  <dc:description/>
  <dc:language>en-US</dc:language>
  <cp:lastModifiedBy>Jenkins, Mark</cp:lastModifiedBy>
  <dcterms:modified xsi:type="dcterms:W3CDTF">2012-01-30T21:48:36Z</dcterms:modified>
  <cp:revision>8</cp:revision>
  <dc:subject/>
  <dc:title>COLONIAL PERIOD</dc:title>
</cp:coreProperties>
</file>